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7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jpeg" ContentType="image/jpeg"/>
  <Override PartName="/ppt/media/image18.jpeg" ContentType="image/jpeg"/>
  <Override PartName="/ppt/media/image16.wmf" ContentType="image/x-wmf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5A6-2A8E-44EF-B338-75156157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63A-5B78-4E0D-ACAC-E92CC24E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BCA1-9A8E-4D83-A741-290FAA05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573-899B-4293-BE2B-512B0DC1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3737-5BE4-43FE-ADD3-CED680EA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0599-680A-42AF-9527-91116D95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5B69-6527-4559-A3AD-3903B01D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9466-8EAE-43DD-95EC-90B9559F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43DD-6E00-4A09-AACC-52C8D6C7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427D-E25E-4758-8A69-E81B0D31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531C-BD5E-4514-8D0F-C8ADC8A2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A5C-5EDD-4194-BAFD-20D1E911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409A-C903-464D-9205-FF1A4DBB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0341-133D-486E-B50E-A1B295A5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B957-F499-4033-AED7-F5C3FA8A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3B71-D773-4F36-A81C-9302C5C0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E9AF-11AC-4DA3-AB26-38941723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F52-4BB3-4BF8-A36C-327E5CA7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409-433E-4C29-83D7-9F2E5535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C04-638C-4675-A66D-C87787E4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1444-A1AC-42AE-9A1F-4A9D2F2A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83C-C69E-4646-9913-6629EB1F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E75-759C-4CE3-B344-F031C6CE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A28-3F9B-43A1-B5A2-3C79825E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9CC9-3ED1-464D-AF31-6DA528775D2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7920-5995-4026-9C0F-8698E477993F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3716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8f8f8"/>
                </a:solidFill>
                <a:latin typeface="Arial"/>
              </a:rPr>
              <a:t>Dr. Seuss</a:t>
            </a:r>
            <a:endParaRPr b="0" lang="en-US" sz="8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9040" y="4179960"/>
            <a:ext cx="51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at would we do without him?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7960" y="1206360"/>
            <a:ext cx="81280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960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1950, children were having a hard time reading because their books were boring! One of Dr. Seuss’s friends called Mr. Geisel and told him he should write a funny book with only a few easy words in it.  It took Dr. Seuss 9 months and he used only 220 easy words. Everybody loved it!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at book wa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86200" y="60948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14600" y="576360"/>
            <a:ext cx="411480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609480"/>
            <a:ext cx="7925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  <a:ea typeface=""/>
              </a:rPr>
              <a:t>Dr. Seuss wrote 48 different books. They have been published in 28 different languages.  More than 100 million copies have been sold all over the world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Seuss is different from many writers because most of his books are written in                         rhyme. To make rhymes,                       he would often make up                     words, like Sneetches,                        and Zizzer-zazzer-zuzz.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9920" y="3581280"/>
            <a:ext cx="26352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3119400" cy="4419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114800" y="576360"/>
            <a:ext cx="4867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"/>
              </a:rPr>
              <a:t>Dr. Seuss was still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"/>
              </a:rPr>
              <a:t>writing books when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"/>
              </a:rPr>
              <a:t>he died on Sept. 24,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"/>
              </a:rPr>
              <a:t>1991 at the age of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"/>
              </a:rPr>
              <a:t>87. His book, </a:t>
            </a:r>
            <a:r>
              <a:rPr b="1" lang="en-US" sz="3600" spc="-1" strike="noStrike" u="sng">
                <a:solidFill>
                  <a:srgbClr val="f8f8f8"/>
                </a:solidFill>
                <a:uFillTx/>
                <a:latin typeface="Arial"/>
                <a:ea typeface=""/>
              </a:rPr>
              <a:t>Daisy-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8f8f8"/>
                </a:solidFill>
                <a:uFillTx/>
                <a:latin typeface="Arial"/>
                <a:ea typeface=""/>
              </a:rPr>
              <a:t>Head Mayzie,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"/>
              </a:rPr>
              <a:t>cam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"/>
              </a:rPr>
              <a:t>out 4 years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"/>
              </a:rPr>
              <a:t>later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1720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4000680" cy="2692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066680" y="3733920"/>
            <a:ext cx="74678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Dr. Seuss’s books were fun to read but they taught kids about life too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161040" cy="4559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38080" y="5638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 person’s a person, no matter how small!   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f8f8f8"/>
                </a:solidFill>
                <a:latin typeface="Arial"/>
              </a:rPr>
              <a:t>Horton Hears a Who!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80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"/>
              </a:rPr>
              <a:t>Dr. Seuss helps us care about others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9400" y="369720"/>
            <a:ext cx="77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. Seuss teaches us to be true to ourselve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3880"/>
            <a:ext cx="541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You have brains in your head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You have feet in your shoe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You can steer yourself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ny direction you choose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You’re on your own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nd you know what you know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nd </a:t>
            </a:r>
            <a:r>
              <a:rPr b="1" i="1" lang="en-US" sz="2800" spc="-1" strike="noStrike">
                <a:solidFill>
                  <a:srgbClr val="f8f8f8"/>
                </a:solidFill>
                <a:latin typeface="Arial"/>
              </a:rPr>
              <a:t>YOU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 are the gu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Who’ll decide where to go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53080" y="2895480"/>
            <a:ext cx="19065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148280" cy="5727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64320" y="473040"/>
            <a:ext cx="4132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r Seuss books can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ach us abou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versity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We see them come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We see them go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ome are fast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nd some are slow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Not one of them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Is like another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Don’t ask why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Go ask your mother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3657600" cy="5056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3657600" cy="5068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67880" y="5334120"/>
            <a:ext cx="67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r. Seuss wrote books with messages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bout getting along, and pollution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755640"/>
            <a:ext cx="8153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he more that you read,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he more things you will know,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he more that you learn,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he more places you’ll go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Dr. Seuss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2144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19720" y="6854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One of the most famous authors of all times is Dr. Seuss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Seuss’s real name was Theodor Seuss Geisel. Seuss was his middle name. The doctor part he made up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205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96252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. Seuss was born on March 2, 1904. He died on September 24, 1991 when he was 87 years ol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14600" y="533520"/>
            <a:ext cx="38862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2286000" cy="29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971800" y="914400"/>
            <a:ext cx="3276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When Ted went to college, he drew  cartoons for the school newspaper. After college he made ads for </a:t>
            </a: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Flit,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a company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that made bug spray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72200" y="533520"/>
            <a:ext cx="2317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1523880"/>
            <a:ext cx="7620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Dr. Seuss thought of his first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idea for a children’s book in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1936 while on a vacation cruise.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The rhythm of the ship’s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engine helped him think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of the rhyme of his first book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n you guess which one 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irst book Dr. Seuss wrote wa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d to Think That I Saw it on Mulberry Stree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Forty three different book companies rejected this book!  Finally one of Mr. Geisel’s friends who was a book publisher decided to make it a bo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95680" y="685800"/>
            <a:ext cx="41148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ne day Dr. Seuss was sitting in his office with the windows open. A breeze lifted a piece of paper with an elephant sketched on it and laid it down on another drawing of a tree. “All I had to do was figure out what that elephant was doing in that tree.”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at story became …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14600" y="595440"/>
            <a:ext cx="411480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222640" cy="3174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09480" y="4572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"/>
              </a:rPr>
              <a:t>In 1941, Dr. Seuss took a break from writing books. He cared about politics and during World War II drew many cartoons for a magazine. He also joined the United States Army and helped to make movies for the soldier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2863800" cy="3733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2463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20:31:50Z</dcterms:created>
  <dc:creator>Karen DeFrank</dc:creator>
  <dc:description/>
  <dc:language>en-US</dc:language>
  <cp:lastModifiedBy>bregan</cp:lastModifiedBy>
  <dcterms:modified xsi:type="dcterms:W3CDTF">2004-02-27T23:32:13Z</dcterms:modified>
  <cp:revision>113</cp:revision>
  <dc:subject/>
  <dc:title>Dr. Seu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22989960</vt:r8>
  </property>
  <property fmtid="{D5CDD505-2E9C-101B-9397-08002B2CF9AE}" pid="3" name="_AuthorEmail">
    <vt:lpwstr>DDennie@lkwash.wednet.edu</vt:lpwstr>
  </property>
  <property fmtid="{D5CDD505-2E9C-101B-9397-08002B2CF9AE}" pid="4" name="_AuthorEmailDisplayName">
    <vt:lpwstr>Dennie, DyAnn</vt:lpwstr>
  </property>
  <property fmtid="{D5CDD505-2E9C-101B-9397-08002B2CF9AE}" pid="5" name="_EmailSubject">
    <vt:lpwstr>Doctor Seuss Powerpoint</vt:lpwstr>
  </property>
  <property fmtid="{D5CDD505-2E9C-101B-9397-08002B2CF9AE}" pid="6" name="_ReviewingToolsShownOnce">
    <vt:lpwstr/>
  </property>
</Properties>
</file>